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49D-CC0D-414F-B0D5-D1328038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421992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810-017B-451D-A02F-01A73BCA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112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FAC-D2D7-414F-9DA1-8A5066BB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69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9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421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421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421992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55D-A273-496C-BD2A-1AB95639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3F1-7E30-4395-85EA-66808B6F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61E-DF51-4583-9976-AD1D29DE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3EB-19A5-40B1-9008-5533745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01B-21F2-4C7B-A74D-393E019F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125360"/>
            <a:ext cx="8569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EC1-59BE-48D3-B14A-61DC7297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51B-1739-40D7-BB9F-F76990D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1120" y="421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844-58E0-43CA-9E7C-8A020BE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116720"/>
            <a:ext cx="856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120" y="169992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421992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4F1-579F-432E-B10D-9BC9366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333360"/>
            <a:ext cx="856908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Sistema Lin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B4F-19DA-42BF-82BA-2BD4A380E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28000" y="333360"/>
            <a:ext cx="792000" cy="70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24000" y="1628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91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Grupo Omega – FBAI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4869000"/>
            <a:ext cx="8137440" cy="1326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upo Om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stemas de Informação – 8° Se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uldades Batista de Administração 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095640" cy="275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33360"/>
            <a:ext cx="9144000" cy="2399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ahoma"/>
              </a:rPr>
              <a:t>Sistema LinFOO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60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istema LinFOOD tem como objetivo automatizar restaurantes tipo “a la carte”, possibilit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Cadastro de Prod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Uso de Observações nos pe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Visualização do status das M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Impressão de Pedidos e Ticket de V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Recebimento da C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Emissão de Relatórios geren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60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Sistema LinFOOD é designado para funcionamento em rede local, através de uma  intr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a interface utiliza o web browser instalado na máquina, tornando o uso do sistema semelhante à navegação na Internet e, assim,  amigável para os usuá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aixo é mostrada a arquitetura do Sistema Lin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2425680"/>
            <a:ext cx="9144000" cy="3475800"/>
            <a:chOff x="0" y="2425680"/>
            <a:chExt cx="9144000" cy="3475800"/>
          </a:xfrm>
        </p:grpSpPr>
        <p:graphicFrame>
          <p:nvGraphicFramePr>
            <p:cNvPr id="55" name=""/>
            <p:cNvGraphicFramePr/>
            <p:nvPr/>
          </p:nvGraphicFramePr>
          <p:xfrm>
            <a:off x="0" y="2808000"/>
            <a:ext cx="1403280" cy="81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808000"/>
                      <a:ext cx="1403280" cy="8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1246680" y="3015720"/>
              <a:ext cx="87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2368800" y="2641320"/>
              <a:ext cx="249480" cy="747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93720" y="3140640"/>
              <a:ext cx="0" cy="18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5610960" y="2641320"/>
              <a:ext cx="249480" cy="747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1994760" y="4969800"/>
            <a:ext cx="1101240" cy="74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94760" y="4969800"/>
                      <a:ext cx="1101240" cy="74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8271000" y="4449960"/>
              <a:ext cx="249120" cy="3322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95920" y="3015720"/>
              <a:ext cx="0" cy="14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10880" y="5718240"/>
              <a:ext cx="18302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PRESSO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76160" y="4052880"/>
              <a:ext cx="13305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400" y="2425680"/>
              <a:ext cx="8294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6400" y="2425680"/>
              <a:ext cx="9964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05360" y="3174840"/>
              <a:ext cx="10807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81920" y="4886280"/>
              <a:ext cx="1162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FOO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080" y="3720600"/>
              <a:ext cx="13305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ENTE (BROWS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3000" y="3139560"/>
              <a:ext cx="6649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92320" y="3139560"/>
              <a:ext cx="8301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6"/>
            <a:stretch/>
          </p:blipFill>
          <p:spPr>
            <a:xfrm>
              <a:off x="3512160" y="2475720"/>
              <a:ext cx="115380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7"/>
            <a:stretch/>
          </p:blipFill>
          <p:spPr>
            <a:xfrm>
              <a:off x="6733440" y="2475720"/>
              <a:ext cx="115344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67760" y="3015720"/>
              <a:ext cx="87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88840" y="3015720"/>
              <a:ext cx="87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09560" y="3015720"/>
              <a:ext cx="87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7480" y="2994840"/>
              <a:ext cx="74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7960" y="3555720"/>
              <a:ext cx="1413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ID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NCO DE DADOS (CACHÉ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41480" y="3555720"/>
              <a:ext cx="1495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I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B (II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ção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ora apresentaremos o Sistema LinFOOD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s enfren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hoje pudéssemos demonstrar a versão 1.0 concluída do Sistema LinFOOD, tivemos que solucionar diversos problemas durante o seu desenvolvi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Linux ou Windows? Eis a qu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Java ou ASP? Qual o Ris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Vamos aprender Caché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43280" y="4292640"/>
          <a:ext cx="1332000" cy="19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4292640"/>
                    <a:ext cx="13320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43640" y="4365720"/>
            <a:ext cx="2089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o desenvolvimento do Sistema LinFOOD, pudemos aprender algumas lições importantes para a vi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Simples não é ru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Não corra riscos des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Aprenda a ouvir e compreender seus companh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Não deixe para fazer na última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, principal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 Acredite no seu trabalho e no seu pot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Grupo Omega agrad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spaço Reservado para Pergun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arc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o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23:46:46Z</dcterms:created>
  <dc:creator>rute.silva</dc:creator>
  <dc:description/>
  <dc:language>en-US</dc:language>
  <cp:lastModifiedBy>Robson de Sousa Martins</cp:lastModifiedBy>
  <dcterms:modified xsi:type="dcterms:W3CDTF">2003-12-02T21:50:40Z</dcterms:modified>
  <cp:revision>16</cp:revision>
  <dc:subject/>
  <dc:title>Apresentação do PowerPoint</dc:title>
</cp:coreProperties>
</file>